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mmburger.wav" ContentType="audio/x-wav"/>
  <Override PartName="/ppt/media/image7.png" ContentType="image/png"/>
  <Override PartName="/ppt/media/mmburger%5B1%5D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0A9E-D65D-497D-87DE-5A8003CB4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2E5C-A1B2-41C2-8C00-AFE128C7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EB24-E44A-4567-83B8-668F6E00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26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744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108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26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744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E73B-AF57-446C-9A00-B6AD09491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EE8A-5048-4C8F-8AB3-DC28A9294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A9E3-F32D-44F3-95FC-1D40B4BF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8453-7197-4970-8A66-F2EE2351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21E7-56A1-4591-80CC-52C61400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F6B3-DAB2-4CCA-B21C-535775E3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28440" y="1523520"/>
            <a:ext cx="6095880" cy="87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BE71-5906-4890-A2C1-2778C461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BFAF-BFCC-443B-90AD-7E4AB850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DF9A-48A0-43A6-904D-EA3A18DA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3010-C6A7-4323-B360-795EAA4F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42AC-6E2F-4FCA-9B00-A588E3C1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4619-E5AE-4EB9-BCEC-259E4C2F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3022-D1AF-4AEB-ABC9-9C3A455F9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926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744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9108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926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744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85E0-BED0-4C75-8ECA-6B35F104B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CBD7-C616-4052-BD35-DB4D89E9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622B-0D3D-497F-BE1F-107DFBF9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380A-F46B-4221-9248-D639AFA7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440" y="1523520"/>
            <a:ext cx="6095880" cy="87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3BED-A280-4590-B670-1DCCA635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8A65-2D40-4934-BFBF-FD9AC7AC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143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6934-9E95-4A14-B56C-4C8BD9A4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108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143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108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CEB2-40B4-4A3C-A871-D3859562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C638-935F-4017-8597-E95BB0FFF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BBB3-C5A2-4E62-8C19-9AFCC671D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mmburger.wav"/><Relationship Id="rId3" Type="http://schemas.openxmlformats.org/officeDocument/2006/relationships/audio" Target="../media/mmburger%5B1%5D.wav"/><Relationship Id="rId4" Type="http://schemas.openxmlformats.org/officeDocument/2006/relationships/audio" Target="../media/mmburger%5B1%5D.wav"/><Relationship Id="rId5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533520"/>
            <a:ext cx="807732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8600"/>
                </a:solidFill>
                <a:latin typeface="Hot Pizza"/>
              </a:rPr>
              <a:t>How To Do</a:t>
            </a:r>
            <a:br>
              <a:rPr sz="9600"/>
            </a:br>
            <a:r>
              <a:rPr b="0" lang="en-US" sz="9600" spc="-1" strike="noStrike">
                <a:solidFill>
                  <a:srgbClr val="008600"/>
                </a:solidFill>
                <a:latin typeface="Hot Pizza"/>
              </a:rPr>
              <a:t>an AHA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038480"/>
            <a:ext cx="167616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8600"/>
                </a:solidFill>
                <a:latin typeface="Hot Pizza"/>
              </a:rPr>
              <a:t>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3701880"/>
            <a:ext cx="16765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8600"/>
                </a:solidFill>
                <a:latin typeface="Hot Pizza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4006800"/>
            <a:ext cx="167616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8600"/>
                </a:solidFill>
                <a:latin typeface="Hot Pizza"/>
              </a:rPr>
              <a:t>Q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5562720"/>
            <a:ext cx="62485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6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000"/>
                </a:solidFill>
                <a:latin typeface="Hot Pizza"/>
              </a:rPr>
              <a:t>Ms. Susan M. Pojer</a:t>
            </a:r>
            <a:br>
              <a:rPr sz="2400"/>
            </a:br>
            <a:r>
              <a:rPr b="1" lang="en-US" sz="2400" spc="-1" strike="noStrike">
                <a:solidFill>
                  <a:srgbClr val="c80000"/>
                </a:solidFill>
                <a:latin typeface="Hot Pizza"/>
              </a:rPr>
              <a:t>Horace Greeley H. S.     Chappaqua, 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62120" y="1523880"/>
            <a:ext cx="815328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2640" indent="-51264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tart with a “concluding phrase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Restate your thesis statement </a:t>
            </a:r>
            <a:r>
              <a:rPr b="1" lang="en-US" sz="2600" spc="-1" strike="noStrike" u="sng">
                <a:solidFill>
                  <a:srgbClr val="ff1d1d"/>
                </a:solidFill>
                <a:uFillTx/>
                <a:latin typeface="Comic Sans MS"/>
              </a:rPr>
              <a:t>a bit differentl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ut your essay answer in a larger historical perspecti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4114800"/>
            <a:ext cx="6553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437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End of some trend/movement/idea, et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37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Beginning of some trend/movement/ide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37"/>
              </a:spcBef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End of one &amp; beginning of anoth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37"/>
              </a:spcBef>
              <a:buSzPct val="102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Do NOT end on the note that this is the reason we are where we are today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088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The Concluding” Paragraph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27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01" dur="250" autoRev="1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2" dur="250" autoRev="1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3" dur="250" autoRev="1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5716" t="3766" r="14288" b="44400"/>
          <a:stretch/>
        </p:blipFill>
        <p:spPr>
          <a:xfrm>
            <a:off x="2743200" y="1595520"/>
            <a:ext cx="3352680" cy="2214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666880" y="3629160"/>
            <a:ext cx="3810240" cy="2009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895480" y="5491080"/>
            <a:ext cx="3505320" cy="1062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8600" y="38088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Put It All Together, And . . . 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3124080" cy="3124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80000"/>
            </a:outerShdw>
          </a:effectLst>
        </p:spPr>
      </p:pic>
      <p:sp>
        <p:nvSpPr>
          <p:cNvPr id="118" name=""/>
          <p:cNvSpPr/>
          <p:nvPr/>
        </p:nvSpPr>
        <p:spPr>
          <a:xfrm>
            <a:off x="228600" y="380880"/>
            <a:ext cx="8763120" cy="94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8600"/>
                </a:solidFill>
                <a:latin typeface="Hot Pizza"/>
              </a:rPr>
              <a:t>Ummmmm,  Burger!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586728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I Mean,  </a:t>
            </a:r>
            <a:r>
              <a:rPr b="0" lang="en-US" sz="4600" spc="-1" strike="noStrike" u="sng">
                <a:solidFill>
                  <a:srgbClr val="008600"/>
                </a:solidFill>
                <a:uFillTx/>
                <a:latin typeface="Hot Pizza"/>
              </a:rPr>
              <a:t>A Perfect Essay</a:t>
            </a: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!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mburger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mburger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990720"/>
            <a:ext cx="883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Create a rough draft in outline form using this forma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29718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Skip a line from your intro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dentify the “theme”/thesis of this first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“meat”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¶ </a:t>
            </a:r>
            <a:r>
              <a:rPr b="1" lang="en-US" sz="2200" spc="-1" strike="noStrike">
                <a:solidFill>
                  <a:srgbClr val="3333cc"/>
                </a:solidFill>
                <a:latin typeface="Comic Sans MS"/>
              </a:rPr>
              <a:t>[underline or highlight it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ndent bullets listing all facts/doc. info.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and other </a:t>
            </a:r>
            <a:r>
              <a:rPr b="1" lang="en-US" sz="2200" spc="-1" strike="noStrike">
                <a:solidFill>
                  <a:srgbClr val="3333cc"/>
                </a:solidFill>
                <a:latin typeface="Comic Sans MS"/>
              </a:rPr>
              <a:t>“o.i.”s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that you will need in tha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When done with tha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¶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, skip a line and do the same for the other “meat”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¶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1600200"/>
            <a:ext cx="708660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437"/>
              </a:spcBef>
              <a:buClr>
                <a:srgbClr val="e02b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Write out your introductory paragraph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37"/>
              </a:spcBef>
              <a:buClr>
                <a:srgbClr val="e02b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Create a loose outline of your “meat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¶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s in this manner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272880"/>
            <a:ext cx="876312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8600"/>
                </a:solidFill>
                <a:latin typeface="Hot Pizza"/>
              </a:rPr>
              <a:t>DO-NOW In Clas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5867280"/>
            <a:ext cx="82296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437"/>
              </a:spcBef>
              <a:buClr>
                <a:srgbClr val="e02b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Skip a line after your last “meat” ¶ and write you concluding ¶ out in ful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3520" y="1219320"/>
            <a:ext cx="82296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Write out your introductory paragraph in full,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omic Sans MS"/>
              </a:rPr>
              <a:t>underlining your thesis statement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¶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sub-topic tit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Information from a document (Doc-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Information from another document (Doc-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Some outside information (O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Different info. from the same document (Doc-E)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¶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sub-topic tit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Information from a document (Doc-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Some outside information (O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Some outside information (O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Information from another document (Doc-H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22860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Outline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1539720"/>
            <a:ext cx="8001000" cy="44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¶3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sub-topic tit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Information from a document (Doc-C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Information from another document (Doc-D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Some outside information (O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formation from another document (Doc-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w information from the same document (Doc-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me outside information (O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1840">
              <a:lnSpc>
                <a:spcPct val="100000"/>
              </a:lnSpc>
              <a:buClr>
                <a:srgbClr val="c8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me outside information (OI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Write out your concluding paragraph in ful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42552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Outline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29000" y="4572000"/>
            <a:ext cx="2057400" cy="1770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2280" y="822240"/>
            <a:ext cx="876312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8600"/>
                </a:solidFill>
                <a:latin typeface="Hot Pizza"/>
              </a:rPr>
              <a:t>Now, Go  Home &amp; Write Your  Essay  And</a:t>
            </a:r>
            <a:br>
              <a:rPr sz="5000"/>
            </a:br>
            <a:r>
              <a:rPr b="0" lang="en-US" sz="5000" spc="-1" strike="noStrike" u="sng">
                <a:solidFill>
                  <a:srgbClr val="008600"/>
                </a:solidFill>
                <a:uFillTx/>
                <a:latin typeface="Hot Pizza"/>
              </a:rPr>
              <a:t>Dazzle Me</a:t>
            </a:r>
            <a:br>
              <a:rPr sz="5000"/>
            </a:br>
            <a:r>
              <a:rPr b="0" lang="en-US" sz="5000" spc="-1" strike="noStrike" u="sng">
                <a:solidFill>
                  <a:srgbClr val="008600"/>
                </a:solidFill>
                <a:uFillTx/>
                <a:latin typeface="Hot Pizza"/>
              </a:rPr>
              <a:t>With Your Brilliance</a:t>
            </a:r>
            <a:r>
              <a:rPr b="0" lang="en-US" sz="5000" spc="-1" strike="noStrike">
                <a:solidFill>
                  <a:srgbClr val="008600"/>
                </a:solidFill>
                <a:latin typeface="Hot Pizza"/>
              </a:rPr>
              <a:t>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47920" y="990720"/>
            <a:ext cx="6324480" cy="534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8600"/>
                </a:solidFill>
                <a:latin typeface="Hot Pizza"/>
              </a:rPr>
              <a:t>YOU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8600"/>
                </a:solidFill>
                <a:latin typeface="Hot Pizza"/>
              </a:rPr>
              <a:t>CAN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8600"/>
                </a:solidFill>
                <a:latin typeface="Hot Pizza"/>
              </a:rPr>
              <a:t>DO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8600"/>
                </a:solidFill>
                <a:latin typeface="Hot Pizza"/>
              </a:rPr>
              <a:t>IT!!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501480"/>
            <a:ext cx="80773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600"/>
                </a:solidFill>
                <a:latin typeface="Hot Pizza"/>
              </a:rPr>
              <a:t>A “Dazzling” D.B.Q.</a:t>
            </a:r>
            <a:br>
              <a:rPr sz="4800"/>
            </a:br>
            <a:r>
              <a:rPr b="0" lang="en-US" sz="4800" spc="-1" strike="noStrike">
                <a:solidFill>
                  <a:srgbClr val="008600"/>
                </a:solidFill>
                <a:latin typeface="Hot Pizza"/>
              </a:rPr>
              <a:t>Is Like a Tasty Hamburg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2855" t="3329" r="5716" b="4203"/>
          <a:stretch/>
        </p:blipFill>
        <p:spPr>
          <a:xfrm>
            <a:off x="2567160" y="2286000"/>
            <a:ext cx="4138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250" autoRev="1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0" dur="250" autoRev="1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" dur="250" autoRev="1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5716" t="3766" r="14288" b="44400"/>
          <a:stretch/>
        </p:blipFill>
        <p:spPr>
          <a:xfrm>
            <a:off x="1143000" y="1900080"/>
            <a:ext cx="3352680" cy="2214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33720" y="4660920"/>
            <a:ext cx="6172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Comic Sans MS"/>
              </a:rPr>
              <a:t>“Top Bun”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f your essay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-6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380880"/>
            <a:ext cx="807696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8600"/>
                </a:solidFill>
                <a:latin typeface="Hot Pizza"/>
              </a:rPr>
              <a:t>The Introductory Paragrap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14400" y="1600200"/>
            <a:ext cx="762012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c8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tablish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IME &amp; PLAC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c8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reate a clear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ESIS STATEMEN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[underline or highlight it!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c8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lude to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UB-TOPIC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r categories you will discuss to support your thesis statemen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c8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cus on the question at hand—do NOT begin with a “flowery” senten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0148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The Introductory Paragraph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4662360"/>
            <a:ext cx="3352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437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No “laundry list!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819520" y="4280040"/>
            <a:ext cx="5867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Comic Sans MS"/>
              </a:rPr>
              <a:t>“tasty” par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f your essay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8-12 sentences+ per para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43000" y="1800360"/>
            <a:ext cx="3809880" cy="2009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28600" y="38088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The “</a:t>
            </a:r>
            <a:r>
              <a:rPr b="0" lang="en-US" sz="4600" spc="-1" strike="noStrike">
                <a:solidFill>
                  <a:srgbClr val="008600"/>
                </a:solidFill>
                <a:latin typeface="Comic Sans MS"/>
              </a:rPr>
              <a:t>”</a:t>
            </a: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Meat</a:t>
            </a:r>
            <a:r>
              <a:rPr b="0" lang="en-US" sz="4600" spc="-1" strike="noStrike">
                <a:solidFill>
                  <a:srgbClr val="008600"/>
                </a:solidFill>
                <a:latin typeface="Comic Sans MS"/>
              </a:rPr>
              <a:t>”</a:t>
            </a: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” Paragraph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09480" y="1455840"/>
            <a:ext cx="807732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dentify your sub-topic or category in the first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clude the documents that are relevant to support the ideas in the para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 most of the documents gi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ring in supportive outside information.  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Comic Sans MS"/>
              </a:rPr>
              <a:t>This is critical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!!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*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o.i.’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= “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tside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forma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749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y were these documents sel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380880"/>
            <a:ext cx="87631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The “</a:t>
            </a:r>
            <a:r>
              <a:rPr b="0" lang="en-US" sz="4600" spc="-1" strike="noStrike">
                <a:solidFill>
                  <a:srgbClr val="008600"/>
                </a:solidFill>
                <a:latin typeface="Comic Sans MS"/>
              </a:rPr>
              <a:t>”</a:t>
            </a: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Meat</a:t>
            </a:r>
            <a:r>
              <a:rPr b="0" lang="en-US" sz="4600" spc="-1" strike="noStrike">
                <a:solidFill>
                  <a:srgbClr val="008600"/>
                </a:solidFill>
                <a:latin typeface="Comic Sans MS"/>
              </a:rPr>
              <a:t>”</a:t>
            </a: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” Paragraph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1608120"/>
            <a:ext cx="838188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ttribution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Who is this pers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hy might they be significa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hat is the point of view (POV) of the autho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How reliable and accurate is the sourc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hat is the tone or intent of the document autho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hat other information does this document call to mind?  Use all available clu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6095880"/>
            <a:ext cx="8534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Comic Sans MS"/>
              </a:rPr>
              <a:t>Remember, docs. can be used in a variety of way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304920"/>
            <a:ext cx="8534520" cy="125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8600"/>
                </a:solidFill>
                <a:latin typeface="Hot Pizza"/>
              </a:rPr>
              <a:t>Questions to Ask Yourself About the Docu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2057400"/>
            <a:ext cx="8382240" cy="34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spcBef>
                <a:spcPts val="1687"/>
              </a:spcBef>
              <a:buClr>
                <a:srgbClr val="c8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Thomas Paine, </a:t>
            </a:r>
            <a:r>
              <a:rPr b="1" lang="en-US" sz="2700" spc="-1" strike="noStrike">
                <a:solidFill>
                  <a:srgbClr val="fa0000"/>
                </a:solidFill>
                <a:latin typeface="Comic Sans MS"/>
              </a:rPr>
              <a:t>in his pamphlet, </a:t>
            </a:r>
            <a:r>
              <a:rPr b="1" i="1" lang="en-US" sz="2700" spc="-1" strike="noStrike">
                <a:solidFill>
                  <a:srgbClr val="fa0000"/>
                </a:solidFill>
                <a:latin typeface="Comic Sans MS"/>
              </a:rPr>
              <a:t>Common Sense</a:t>
            </a:r>
            <a:r>
              <a:rPr b="1" lang="en-US" sz="2700" spc="-1" strike="noStrike">
                <a:solidFill>
                  <a:srgbClr val="fa0000"/>
                </a:solidFill>
                <a:latin typeface="Comic Sans MS"/>
              </a:rPr>
              <a:t>,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 said:  “………………….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687"/>
              </a:spcBef>
              <a:buClr>
                <a:srgbClr val="c8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Joe Smith, </a:t>
            </a:r>
            <a:r>
              <a:rPr b="1" lang="en-US" sz="2700" spc="-1" strike="noStrike">
                <a:solidFill>
                  <a:srgbClr val="fa0000"/>
                </a:solidFill>
                <a:latin typeface="Comic Sans MS"/>
              </a:rPr>
              <a:t>a mid-Western delegate to the Republican convention in 1912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, agreed with…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1687"/>
              </a:spcBef>
              <a:buClr>
                <a:srgbClr val="f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700" spc="-1" strike="noStrike">
                <a:solidFill>
                  <a:srgbClr val="fa0000"/>
                </a:solidFill>
                <a:latin typeface="Comic Sans MS"/>
              </a:rPr>
              <a:t>19</a:t>
            </a:r>
            <a:r>
              <a:rPr b="1" lang="en-US" sz="2700" spc="-1" strike="noStrike" baseline="30000">
                <a:solidFill>
                  <a:srgbClr val="fa0000"/>
                </a:solidFill>
                <a:latin typeface="Comic Sans MS"/>
              </a:rPr>
              <a:t>c</a:t>
            </a:r>
            <a:r>
              <a:rPr b="1" lang="en-US" sz="2700" spc="-1" strike="noStrike">
                <a:solidFill>
                  <a:srgbClr val="fa0000"/>
                </a:solidFill>
                <a:latin typeface="Comic Sans MS"/>
              </a:rPr>
              <a:t> historian, Frederick Jackson Turner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, felt that …………………. </a:t>
            </a:r>
            <a:r>
              <a:rPr b="1" lang="en-US" sz="2700" spc="-1" strike="noStrike">
                <a:solidFill>
                  <a:srgbClr val="fa0000"/>
                </a:solidFill>
                <a:latin typeface="Comic Sans MS"/>
              </a:rPr>
              <a:t>(Doc. 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5791320"/>
            <a:ext cx="8610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 u="sng">
                <a:solidFill>
                  <a:srgbClr val="3333cc"/>
                </a:solidFill>
                <a:uFillTx/>
                <a:latin typeface="Comic Sans MS"/>
              </a:rPr>
              <a:t>NEVER</a:t>
            </a:r>
            <a:r>
              <a:rPr b="1" i="1" lang="en-US" sz="3400" spc="-1" strike="noStrike">
                <a:solidFill>
                  <a:srgbClr val="3333cc"/>
                </a:solidFill>
                <a:latin typeface="Comic Sans MS"/>
              </a:rPr>
              <a:t> begin with: In Document 3, 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257040"/>
            <a:ext cx="8763120" cy="149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600"/>
                </a:solidFill>
                <a:latin typeface="Hot Pizza"/>
              </a:rPr>
              <a:t>How to Reference a Document in Your Essay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100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14600" y="4019400"/>
            <a:ext cx="61722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Comic Sans MS"/>
              </a:rPr>
              <a:t>“Bottom Bun”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f your ess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t holds it all together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-4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2290680"/>
            <a:ext cx="3505320" cy="1062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28600" y="380880"/>
            <a:ext cx="82296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21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8600"/>
                </a:solidFill>
                <a:latin typeface="Hot Pizza"/>
              </a:rPr>
              <a:t>The Concluding </a:t>
            </a:r>
            <a:br>
              <a:rPr sz="5000"/>
            </a:br>
            <a:r>
              <a:rPr b="0" lang="en-US" sz="5000" spc="-1" strike="noStrike">
                <a:solidFill>
                  <a:srgbClr val="008600"/>
                </a:solidFill>
                <a:latin typeface="Hot Pizza"/>
              </a:rPr>
              <a:t>Paragraph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9T19:49:27Z</dcterms:created>
  <dc:creator>Ms. Susan M. Pojer</dc:creator>
  <dc:description/>
  <dc:language>en-US</dc:language>
  <cp:lastModifiedBy>supojer</cp:lastModifiedBy>
  <dcterms:modified xsi:type="dcterms:W3CDTF">2008-09-12T14:03:16Z</dcterms:modified>
  <cp:revision>106</cp:revision>
  <dc:subject/>
  <dc:title>How To Do an AHAP DNQ</dc:title>
</cp:coreProperties>
</file>